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48B-4246-4DD1-A98F-6854AF6F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63F-94E9-4876-93E3-CF32FB0D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40955-1732-46AA-A7F0-9C23A206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99F7A-F76D-4BE9-98D3-67D455A5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CE132-1039-420B-9120-E70B8A54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C159A-CCCC-464A-B661-95AD6277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BC390-D404-4A2F-B604-96C5029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86068-C9C3-4141-A2BD-CBEA1DD5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37DC5-ECFE-47AD-9BD9-636CDF1C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6A042-E07F-410E-880F-4A08D1B3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D22C6-4888-4A35-B110-6308079D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47B-D6EE-42A8-806B-DDCA4DA5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6E3-F14C-4BA3-B9E2-E613B9CB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1639-F18F-4E28-8C29-32FC084E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DF39-BBBB-484C-9BD9-A53AB290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76FF-61C5-4002-A43A-FB603AD7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F489-120D-4461-8248-BBAE74D3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1C7E-4EDF-4459-8BD9-85B2B8FD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494B-5FB6-4CF1-8AF5-858269C8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A119-E591-43C5-970E-8E06D796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928-442D-484F-887F-444795F8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5F03-9C29-4C30-BAF6-24A15F8F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D8E1-DAF8-4C5F-9AD0-62B6CDEF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1B30-9678-4900-936C-3F08EE47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F4B1-E989-429F-BD74-DFEC7157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E4E1-A654-4E79-9150-A004D251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690F-AAA7-4207-BDE8-7717A01A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49DD-D1C2-49E8-9943-AC388DF4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B900C-3B8C-450D-A82D-1AEBC331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73F1-97E7-4E1E-A3C3-A8FC3B07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9D15-A804-44AB-8274-A824FFAD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629-42F8-45E1-B316-4D04A12D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59AB-2696-45CA-B16A-D5C0A59E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731D-9766-42FD-98EB-E14AE4AF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F3B80-2FA1-4500-895F-BC32BBA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579B-D596-4220-995B-60DD22FC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58CF1-E36C-4032-B8C1-DA474C65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37C8-79C4-4525-8DC7-B8C81095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57CB-7FFF-4E16-8D63-043ABC55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7E744-E075-42E7-ADFD-70B61034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C8B6-830F-4E53-900A-B8AE0516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D92CD-BCB6-48F5-B323-A130AB3C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767-02DC-4B23-A0D8-4ACE0BE5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ACB10-72C6-4F3B-BB86-EDBFCB70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7A273-A80E-4F76-AC91-BB5DAF6E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4A6B-D97F-489F-84B2-A4EFB4C6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2BF41-A2AA-4345-B55E-93D7FEDE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A93D6-47E1-4BBE-B1E1-F83627E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760C1-1FB1-44F2-94C1-C7CD5F6E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08B27-0FA0-436C-A8F0-2DBA66ED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16C45-0328-4165-A04D-616DACEC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8E88-5713-4845-8D3A-93557D29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4596C-EC90-45A9-AAF3-E15AF2E4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597-AF1D-445B-AEAE-40D9B2BD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10B29-6CE7-4AD4-AC92-58064DC4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1AEFF-4076-440D-AAF2-332B363F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1D1E9-447E-4579-A1CE-0806E1EA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056F6-F2FE-4739-BAAD-2E8EAAB8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9CD7E-AF7A-4590-9593-42852113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B2DCC-F4C2-4F58-A9F9-F7440523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1C68D-AC67-4965-BCE1-758B290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CED81-09EA-4AE8-BC0A-9C3E9422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1794B-FE72-480B-8DBA-C63C8135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1244C-ED8C-4B62-9741-53882D62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D1D-7520-489C-A58C-7CE79897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BA4C9-FFE8-4DB9-B930-6953D185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6ADD9-D616-4813-B7CD-E8368604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7CA2E-E0A1-44C6-BE5B-66C761BA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48CA9-B664-4DE7-BE25-FDDC46FD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B33E3-B9CF-40E0-85FA-19AC804B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38EF6-70DB-4975-9940-3D7098BC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2A8F3-6632-4401-9493-1E74B70B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07EFB-88FF-4C92-A194-CB2BA009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8F9C-0258-4415-8DC5-0C5C8379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9E79C-9A48-4055-8C57-E86479BD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10F-CA8E-42D4-9FC0-0EA8DDFC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F04A5-C83C-4618-8709-07DAB75D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5DEA3-A8A8-4B31-8FC4-F288E3D1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AB7A9-B5F0-4EB8-89D3-7A89C24C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0C294-6E1D-49EF-9614-85C2310C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9AB50-3E65-450D-9052-1321EE80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6BFF5-EC91-4002-AB92-1C45B6D3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521BB-5ABD-47C2-A306-7261F12F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2BACC-56E7-41D3-B1E5-D4A72B58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27E97-DF90-4F21-A751-AE0D7D24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82C9B-AC75-4190-B7BF-AFD7F97C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3C0-637B-47B0-9A3E-428AADE2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6EE78-8B74-4E22-B52D-B82112EA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E925F-9DA3-479A-850F-A6016F6B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79AF4-0421-4252-9155-1C0DE4C3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5C20D-DCA0-4725-804A-98DA6A60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5435F-0B23-4DD8-BA5E-B912C518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A4694-57BC-4FF2-8CD3-5C3B32E5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2D4E2-C919-4312-9AC8-AC7C220B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8DACC-28EA-447F-9767-BFD5277D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2855B-A0DF-473C-9C32-ED162B3A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DBCFA-2817-47EC-AE24-6D507F3C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A9E-DA60-4BFF-8B6B-78BAABCB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920D8-4367-4910-B0C2-B68F79F1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87DB5-641C-4E52-9207-85D2C059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D6695-D6F2-42DF-A846-6BC85A4D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96CC6-8A00-4E83-9DBB-F09B8823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F254A-DEB7-4829-BC53-988A6A1B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0EBD1-12C9-477A-A4E2-9FD787B6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9F44B-7D05-422D-8F94-25BE3213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7E2BC-CB80-4C31-A499-D6EFF751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B0B3D-85F3-4768-8327-E13CE740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E9D0B-8D9C-4E9A-BC53-0C10FB1D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62BF-8341-417F-B278-677FB0DDE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512-0C05-43D1-B7E6-615FA0FB5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7119-2F3C-4BF2-829B-FF68D0A55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Harlow Solid Italic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769B-2DBB-4ACE-A8D3-FAF53153B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30BF-084A-4501-94BA-CDDD0A4CF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A118-CDC9-433D-B65C-6CFFB7330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FC2B-E9AD-4DF2-8EFC-D752F3B7C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EB0A-3A21-4EBF-A055-0F49F22F2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05F6-DD3D-4BA1-976E-B9C30F761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Bleeding Cowboys"/>
              </a:rPr>
              <a:t>Chapter 15 Review</a:t>
            </a:r>
            <a:endParaRPr b="0" lang="en-US" sz="60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eeding Cowboys"/>
              </a:rPr>
              <a:t>December 12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Harlow Solid Italic"/>
              </a:rPr>
              <a:t>1) What is a subliminal message?  How does it differ from a supraliminal message?  Give examples of subliminal messages in daily life in your answer. </a:t>
            </a:r>
            <a:endParaRPr b="0" lang="en-US" sz="32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807732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bliminal message is one that is processed without conscious awar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liminal messages exist above the threshold of consciousness and are adequate to evoke a response or induce a sensation that is consc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Harlow Solid Italic"/>
              </a:rPr>
              <a:t>2) The three types of subliminal messages are: embedded images, sub-audible messages, and electronically altered signals.  Describe each one and give examples. </a:t>
            </a:r>
            <a:endParaRPr b="0" lang="en-US" sz="32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mages: words or pictures that are shown for only a few hundredths of a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audible messages: so faint that they can’t be heard, or played at such high frequencies that the human ear cannot detec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ally altered signals: backward masked messages and voice al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Harlow Solid Italic"/>
              </a:rPr>
              <a:t>3) Describe some of the flaws in subliminal research. </a:t>
            </a:r>
            <a:endParaRPr b="0" lang="en-US" sz="32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tudies have employed a double-bind procedure (in which neither the experimenter or the participant know which is subliminal, which is n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o not use contro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Harlow Solid Italic"/>
              </a:rPr>
              <a:t>4) Music plays an important role in advertising and sales.  Describe some of the ways it is used .</a:t>
            </a:r>
            <a:endParaRPr b="0" lang="en-US" sz="32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 lyrics can be persuasive, through the central route (Petty and Caciop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music can persuade via the peripheral route (P and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 the products’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exposure (mere exposure hypo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emonic device (via jing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Harlow Solid Italic"/>
              </a:rPr>
              <a:t>5) Describe some of the effects of background music.</a:t>
            </a:r>
            <a:endParaRPr b="0" lang="en-US" sz="32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affect the atmosphere of a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regulate the pace of the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influence m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affect task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s in an up-tempo environment are more prod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verts scored lower than extroverts on comprehension tasks with background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Harlow Solid Italic"/>
              </a:rPr>
              <a:t>6) Describe the connection between smell and persuasion. </a:t>
            </a:r>
            <a:endParaRPr b="0" lang="en-US" sz="32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rance can influence at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rances can sidetrack people’s thought processes, making them more emotional and less ra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rance can influence m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ant scents can increase task compl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ell can also influence consumer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6:24:31Z</dcterms:created>
  <dc:creator>nuhs</dc:creator>
  <dc:description/>
  <dc:language>en-US</dc:language>
  <cp:lastModifiedBy>nuhs</cp:lastModifiedBy>
  <dcterms:modified xsi:type="dcterms:W3CDTF">2007-12-12T17:47:47Z</dcterms:modified>
  <cp:revision>5</cp:revision>
  <dc:subject/>
  <dc:title>Chapter 15 Review</dc:title>
</cp:coreProperties>
</file>